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07BAA-9AF6-4193-8128-661B90FF21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09C-E4BA-4B50-9FF3-F21E2DEE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77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039920"/>
            <a:ext cx="777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DB6-689C-4940-B49E-7FE6B45F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0399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2320" y="40399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0C8-6B89-44C8-837E-6D62750B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000" y="182844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5280" y="182844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0399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000" y="40399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5280" y="40399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AA5-B8ED-4905-A740-080A1D58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D6DD-5F09-492E-941C-B97E587D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770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FE49-C350-41E3-B2E2-109EBE01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770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E2DC-A8CB-4D30-B58D-F254A284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286C-FB8E-448D-8FF9-BB58D3F1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41CD-3DB1-4478-9876-9BCCD4F0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311040"/>
            <a:ext cx="7770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1D8E-DDBF-4AC0-BB1A-4245A32F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360" y="40399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152C-538D-43F8-888A-EEB0C96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770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32B-C2C7-4C5D-A4FB-BE70D839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2320" y="40399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1C4E-4D67-4ACF-9891-D69737C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39920"/>
            <a:ext cx="777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A59-A94F-4EFC-8C80-1474C2E6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77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360" y="4039920"/>
            <a:ext cx="777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8B3A-09F2-4093-86C3-8AEB8C45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360" y="40399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2320" y="40399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4A21-993D-4A2C-96DC-328A3D9B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000" y="182844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5280" y="182844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360" y="40399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000" y="40399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5280" y="40399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61A9-3FFD-4973-9DF9-1FA973DA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770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410-3AC9-4829-9691-B696C81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8D8-00C5-479F-830C-9888077F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067-0C4D-4716-92E9-0839994F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311040"/>
            <a:ext cx="7770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874-C774-4D08-9CCF-4FEDC3E2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0399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C40-1C65-40D3-A7C2-C41D13D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2320" y="40399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C19-DDE7-4183-BDE7-DE4E313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2320" y="182844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039920"/>
            <a:ext cx="777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B54-F4DB-4D6F-840F-4DE71C16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828440"/>
            <a:ext cx="7770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840144-84A9-4EB5-BFAF-923C3CA18A6E}" type="slidenum">
              <a:rPr b="0" lang="en-GB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7794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05E5AF-D352-4CAD-B1C7-9EAF5BA0E3BC}" type="slidenum">
              <a:rPr b="0" lang="en-GB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El pensament de Descarte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47720" y="37825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eoria de l’error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a voluntat, i no la racionalitat, és la causant de l’error, al precipitar-s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4. Tipus de Substàncie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Res Cogitans: El pensamen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Res Extensa: La Matèri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Res Divina: La Divinita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5. Classificació de les Idee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dees Innates. (Idees sense experiència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dees Adventícies. (Idees sensible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dees Factícies. (Idees elaborade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6. Ètica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libertat i Necessitat són sinònim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7. Importància de Descarte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rimer Filòsof Moder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aper important en la Revolució Científica dels segles XVI-XVIII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niciador de la polèmica entre el Racionalisme i l’Empirism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escartes: Subcapítols.</a:t>
            </a: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1. Precedent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2. El Mètod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3. El Procès Metafísic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4. Tipus de Substànc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5. Classificació de les Ide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6. Ètic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7. Importància del Pensament Cartesià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1. Precedents.</a:t>
            </a: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a Revolució Científica basada en l’Experiència Sensible i la Matemàtic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a necessitat d’un Mètode per a la Nova Ciènci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l pensament de Francis Bac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2. El Mètode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02000"/>
                </a:solidFill>
                <a:latin typeface="Times New Roman"/>
              </a:rPr>
              <a:t>Evidència: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No acceptar com a verdader tot allò que pugui ser fal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02000"/>
                </a:solidFill>
                <a:latin typeface="Times New Roman"/>
              </a:rPr>
              <a:t>Anàlisi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 Dividir les dificultats en parts més petit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02000"/>
                </a:solidFill>
                <a:latin typeface="Times New Roman"/>
              </a:rPr>
              <a:t>Síntesi: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 Iniciar les investigacions per les parts més simpl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02000"/>
                </a:solidFill>
                <a:latin typeface="Times New Roman"/>
              </a:rPr>
              <a:t>Enumeració: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Fer revisions per no ometre res, i no cometre error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3. El Procès Metafísic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ubte Metòdic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Cogit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emostració de Déu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Recuperació d’allò dubta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eoria de l’error.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ubte Metòdic.</a:t>
            </a: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ensibilitat: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entits enganyadors.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                                         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     Somni - Vigília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atemàtica: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ipòtesi del Geni Malign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Cogito Ergo Sum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i existeix el dubte, si existeix el meu pensament, no puc dubtar de la meva existència: Penso, llavors existeix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106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Intents de demostrar l’Existència de Déu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dea Innata de Déu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a Meva Imperfecció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rgument Ontològic. (St Anselm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Recuperació d’allò dubtat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éu no pot enganya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cuperació directa de la Matemàtica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cuperació indirecta de la Sensibilita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p Vicenç Mestre</dc:creator>
  <dc:description/>
  <dc:language>en-US</dc:language>
  <cp:lastModifiedBy>José Vicente Mestre Chust</cp:lastModifiedBy>
  <cp:revision>0</cp:revision>
  <dc:subject/>
  <dc:title>El pensament de Descartes.</dc:title>
</cp:coreProperties>
</file>