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934320" cy="923436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34360"/>
              <a:gd name="textAreaBottom" fmla="*/ 9234000 h 9234360"/>
            </a:gdLst>
            <a:ahLst/>
            <a:rect l="textAreaLeft" t="textAreaTop" r="textAreaRight" b="textAreaBottom"/>
            <a:pathLst>
              <a:path w="21600" h="28764">
                <a:moveTo>
                  <a:pt x="4" y="0"/>
                </a:moveTo>
                <a:arcTo wR="4" hR="4" stAng="16200000" swAng="-5400000"/>
                <a:lnTo>
                  <a:pt x="0" y="28760"/>
                </a:lnTo>
                <a:arcTo wR="4" hR="4" stAng="10800000" swAng="-5400000"/>
                <a:lnTo>
                  <a:pt x="21596" y="2876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208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03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627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6276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4B2763-2450-4961-9724-FBC49F366F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5884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5884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5884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2600" y="4419720"/>
            <a:ext cx="509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oint out that DNA is a double-helix.  This was discovered in the 1950’s… So we haven’t even know the structure of DNA for 50 years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how how the DNA bases pair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AFE-96AB-410D-B542-77B2351A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AAD-7A17-45CA-9272-A727F91C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B9B-A11A-4D91-8A7C-7DDE7DA1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194-E873-4B8E-B39B-A844E34D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832-1335-4FC0-A9E4-CF0ADD43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180-5DF1-4118-9415-388C00D3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8F9-DB8F-4ADE-951A-AE527220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3C5-55FD-4350-8636-84A72190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62C-AB17-4924-99E7-3639A4E8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4D9-8E74-4FF7-A188-887481CF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BCE-473B-4E52-8B48-9F4A05A1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FF3-2261-40B3-916B-77196777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F5F230-9BC3-4BA9-A3B6-37C2640EF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36840" y="49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9080" y="762120"/>
            <a:ext cx="731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NA als meus aliments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816200" y="2100240"/>
          <a:ext cx="5575320" cy="433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6200" y="2100240"/>
                    <a:ext cx="557532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844640"/>
            <a:ext cx="8626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da cèl·lula contè 3 metres de DNA; el seu gruix és de 2nm (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 a mitjana, en cada àpat ingerim 55.000.000 de cèl·lules, que contenen 150.000 km de D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3800" y="6372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oducci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81840" y="2473200"/>
            <a:ext cx="469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itura un plàtan amb 250 ml d’aigua destil·lada fins que obtinguis una mescla 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homogèn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6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029200" y="1447920"/>
          <a:ext cx="2819520" cy="26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1447920"/>
                    <a:ext cx="2819520" cy="26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078520" y="4336920"/>
          <a:ext cx="2770200" cy="234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8520" y="4336920"/>
                    <a:ext cx="27702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2707920"/>
            <a:ext cx="396252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 un got mescla una cullerada de xampú i dos pessics de 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016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181480" y="4038480"/>
          <a:ext cx="2475000" cy="25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4038480"/>
                    <a:ext cx="247500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181480" y="1523880"/>
          <a:ext cx="2438640" cy="240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523880"/>
                    <a:ext cx="2438640" cy="24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4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2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fegeix 20 ml (4 cullerades petites) d’aigua destil·lada. Fins que omplis 1/3 del got.  Dissol la  sal i el xampú remenant lentament amb la cullera de plàstic evitant fer escu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612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876920" y="2133720"/>
          <a:ext cx="3962160" cy="292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2133720"/>
                    <a:ext cx="396216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fegeix a la solució obtinguda al pas 2, tres cullerades del preparat de plàtan que has obtingut al pas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mena la solució amb la cullera durant 5-10 min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612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952880" y="2362320"/>
          <a:ext cx="3200400" cy="282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2362320"/>
                    <a:ext cx="320040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4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tre un membre del grup remena la solució de plàtan, l’altre col·loca el filtre al g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a’l de manera que el filtre no toqui el fons del g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4708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61280" y="63723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410080" y="2057400"/>
          <a:ext cx="3249720" cy="331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2057400"/>
                    <a:ext cx="32497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4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a la mescla pel filtre i deixa que la solució vagi filtrant durant uns minuts, fins que obtinguis uns 5ml de mostra (fins que es cobreixi el fons del go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612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876920" y="2500200"/>
          <a:ext cx="4038480" cy="295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2500200"/>
                    <a:ext cx="403848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4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38098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de tenir preparat un tub d’assaig amb alcohol fred. Com més fred estigui l’alcohol millors resultats obtindràs a l’e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612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181480" y="2057400"/>
          <a:ext cx="3353040" cy="321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057400"/>
                    <a:ext cx="335304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4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le la pipeta de plàstic amb la solució de plà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216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105520" y="2057400"/>
          <a:ext cx="3368520" cy="351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057400"/>
                    <a:ext cx="336852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6640" y="2473200"/>
            <a:ext cx="43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è és el DN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25520" y="371628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trobem DNA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egeix la mescla a l’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ixa que la solució reposi durant 2 ó 3 minuts sense moure-la. És molt important no agitar el tu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216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181480" y="2209680"/>
          <a:ext cx="3353040" cy="305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209680"/>
                    <a:ext cx="3353040" cy="30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DNA precipita en contacte amb l’alcoho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é l’aparença d’un moc filamentós i blan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61280" y="63896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acció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4120" y="1981080"/>
          <a:ext cx="278280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1981080"/>
                    <a:ext cx="2782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71680" y="2519280"/>
            <a:ext cx="8001000" cy="34480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l DNA determina les característiques de tots els organismes vi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l DNA està compost de quatre molècules que s’anomenen amb quatre lletres de l’alfabet: A, T, C i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L’ordre d’aquestes quatre lletres determina les característiques de l’organisme, de la mateixa manera que l’ordre de les lletres determina el significat de les para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ada cèl·lula del cos humà té &gt;3 BILIONS de llet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19240" y="1674720"/>
            <a:ext cx="51055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L'empremta de la Vida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532320" y="279360"/>
            <a:ext cx="2074320" cy="671040"/>
            <a:chOff x="3532320" y="279360"/>
            <a:chExt cx="2074320" cy="671040"/>
          </a:xfrm>
        </p:grpSpPr>
        <p:sp>
          <p:nvSpPr>
            <p:cNvPr id="59" name=""/>
            <p:cNvSpPr txBox="1"/>
            <p:nvPr/>
          </p:nvSpPr>
          <p:spPr>
            <a:xfrm>
              <a:off x="3547800" y="304560"/>
              <a:ext cx="2058840" cy="645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4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0066"/>
                  </a:solidFill>
                  <a:latin typeface="Arial Black"/>
                </a:rPr>
                <a:t>DNA</a:t>
              </a:r>
              <a:endPara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3532320" y="279360"/>
              <a:ext cx="2058480" cy="645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4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99ccff"/>
                  </a:solidFill>
                  <a:latin typeface="Arial Black"/>
                </a:rPr>
                <a:t>DNA</a:t>
              </a:r>
              <a:endPara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cc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8223120" y="6261120"/>
            <a:ext cx="320760" cy="55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010360" y="5867280"/>
            <a:ext cx="225720" cy="754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443800" y="6076800"/>
            <a:ext cx="192240" cy="56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713800" y="6173640"/>
            <a:ext cx="277920" cy="601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86080" y="30492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DNA, l'emprenta de la Vida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1038240" y="1924200"/>
            <a:ext cx="7066080" cy="34455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L’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única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diferència entre organismes vius és la quantitat de DNA que tenen i com està organitzat aqu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43640" y="4005360"/>
            <a:ext cx="2336760" cy="2687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523880" y="38088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DNA, l'empremta de la Vida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3880" y="22860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DNA, l'emprenta de la Vida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00200" y="22860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DNA, l'empremta de la Vida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990880" y="957240"/>
            <a:ext cx="2614680" cy="5630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5029560" y="14558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33920" y="21733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8000" y="271476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1440" y="353376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6440" y="426240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3920" y="49197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1840" y="56167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84640" y="143208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8160" y="494820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91080" y="215100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3240" y="35100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44960" y="56451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80280" y="27543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18160" y="42512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133720" y="1219320"/>
          <a:ext cx="5021280" cy="55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219320"/>
                    <a:ext cx="50212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567760" y="1219320"/>
            <a:ext cx="1453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orop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1752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itocond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2971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cu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7360" y="624852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mbrana cel·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37360" y="57150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et cel·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5440" y="51055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ito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4840" y="152388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uc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D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209680"/>
            <a:ext cx="106668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03360" y="1600200"/>
            <a:ext cx="460440" cy="533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789160" y="2209680"/>
            <a:ext cx="384120" cy="609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951080" y="3200400"/>
            <a:ext cx="13748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809880" y="5713200"/>
            <a:ext cx="533520" cy="765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48120" y="5560560"/>
            <a:ext cx="380880" cy="38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00400" y="4493880"/>
            <a:ext cx="838080" cy="765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2560" y="304920"/>
            <a:ext cx="273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 Black"/>
              </a:rPr>
              <a:t>La Cèl· l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DNA és present a totes les cèl·lules de tots els organismes v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DNA forma els gens, i aquests s’agrupen formant els cromos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s científics han de ser capaços de separar el DNA d’altres substàncies de les cèl·lules, i ho fan amb cura per no desnaturalitzar-lo (trencar-l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10120" y="638964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oducci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parareu una solució amb plàtan, sal, aigua destil·lada i xamp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xampú trenca les membranes cel·lulars i dissol els lípids (greixos com el colesterol) i les proteïnes que mantenen la integritat de la membrana cel·l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0120" y="644832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oducci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A als meus aliments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xampú formarà complexes amb lípids i proteïnes que més tard filtrarem per tal d’obtenir només el D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sal permet que el DNA precipiti quan, un cop filtrat, l’aboquem a l’alcohol f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resultat final de l’experiment serà un moc blanquinós i filamentós que conté el DNA i les proteïnes associades a aquest, anomenades hist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4587840"/>
            <a:ext cx="862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3800" y="638964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oducci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Zeller</dc:creator>
  <dc:description/>
  <dc:language>en-US</dc:language>
  <cp:lastModifiedBy>.</cp:lastModifiedBy>
  <dcterms:modified xsi:type="dcterms:W3CDTF">2008-09-14T15:02:49Z</dcterms:modified>
  <cp:revision>1</cp:revision>
  <dc:subject/>
  <dc:title>DNA als meus aliments ?</dc:title>
</cp:coreProperties>
</file>