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33600" cy="923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934320" cy="9234360"/>
          </a:xfrm>
          <a:custGeom>
            <a:avLst/>
            <a:gdLst>
              <a:gd name="textAreaLeft" fmla="*/ 360 w 6934320"/>
              <a:gd name="textAreaRight" fmla="*/ 6933960 w 6934320"/>
              <a:gd name="textAreaTop" fmla="*/ 360 h 9234360"/>
              <a:gd name="textAreaBottom" fmla="*/ 9234000 h 9234360"/>
            </a:gdLst>
            <a:ahLst/>
            <a:rect l="textAreaLeft" t="textAreaTop" r="textAreaRight" b="textAreaBottom"/>
            <a:pathLst>
              <a:path w="21600" h="28764">
                <a:moveTo>
                  <a:pt x="4" y="0"/>
                </a:moveTo>
                <a:arcTo wR="4" hR="4" stAng="16200000" swAng="-5400000"/>
                <a:lnTo>
                  <a:pt x="0" y="28760"/>
                </a:lnTo>
                <a:arcTo wR="4" hR="4" stAng="10800000" swAng="-5400000"/>
                <a:lnTo>
                  <a:pt x="21596" y="2876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30400" y="685440"/>
            <a:ext cx="467208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037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76276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62520" y="876276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CE98D5E-DDC0-4AA0-8EF8-EB9EB3A272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5884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400" y="4419720"/>
            <a:ext cx="5105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5884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400" y="4419720"/>
            <a:ext cx="5105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5884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2600" y="4419720"/>
            <a:ext cx="509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oint out that DNA is a double-helix.  This was discovered in the 1950’s… So we haven’t even know the structure of DNA for 50 years y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how how the DNA bases pair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29D9-9417-4621-8308-C0F2482DB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EA5D-2370-498E-8817-625FB6CA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AEC1-30E5-4E01-A322-D0C365D92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DB78-1105-417D-8D3A-1D94522CF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38E1-1BF8-4B51-810B-CEB789E7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3655-1301-4CBA-A7C9-D833EBEA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6AD7-8B60-4CBA-B776-E6309420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3C0C-0D1A-41F8-9892-CE3D2A11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6730-1B77-4B10-86AA-71D40AF9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BFC1-AA86-4BC9-9BA4-FAB7034E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3CC0-BBA2-45B4-BAAA-4E5EA185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7499-E99F-4101-982D-D2CA7669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D66A43-755E-4EC2-BD7B-40F0ABC35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336840" y="49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29080" y="762120"/>
            <a:ext cx="731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NA als meus aliments?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816200" y="2100240"/>
          <a:ext cx="5575320" cy="433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16200" y="2100240"/>
                    <a:ext cx="5575320" cy="43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NA als meus aliments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1844640"/>
            <a:ext cx="86263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da cèl·lula contè 3 metres de DNA; el seu gruix és de 2nm (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 a mitjana, en cada àpat ingerim 55.000.000 de cèl·lules, que contenen 150.000 km de D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33800" y="637236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roducci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NA als meus aliments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81840" y="2473200"/>
            <a:ext cx="469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racció de D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NA als meus aliments??? 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itura un plàtan amb 250 ml d’aigua destil·lada fins que obtinguis una mescla </a:t>
            </a:r>
            <a:r>
              <a:rPr b="0" lang="ca-ES" sz="2800" spc="-1" strike="noStrike">
                <a:solidFill>
                  <a:srgbClr val="000000"/>
                </a:solidFill>
                <a:latin typeface="Comic Sans MS"/>
              </a:rPr>
              <a:t>homogènia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4680" y="638964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tracció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029200" y="1447920"/>
          <a:ext cx="2819520" cy="261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29200" y="1447920"/>
                    <a:ext cx="2819520" cy="26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5078520" y="4336920"/>
          <a:ext cx="2770200" cy="2343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78520" y="4336920"/>
                    <a:ext cx="277020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NA als meus aliments??? 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280" y="2707920"/>
            <a:ext cx="3962520" cy="16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 un got mescla una cullerada de xampú i dos pessics de s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0160" y="638964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tracció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181480" y="4038480"/>
          <a:ext cx="2475000" cy="254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4038480"/>
                    <a:ext cx="247500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5181480" y="1523880"/>
          <a:ext cx="2438640" cy="2405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1523880"/>
                    <a:ext cx="2438640" cy="24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4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NA als meus aliments???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 2 (con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fegeix 20 ml (4 cullerades petites) d’aigua destil·lada. Fins que omplis 1/3 del got.  Dissol la  sal i el xampú remenant lentament amb la cullera de plàstic evitant fer escu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61280" y="638964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tracció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876920" y="2133720"/>
          <a:ext cx="3962160" cy="2925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6920" y="2133720"/>
                    <a:ext cx="3962160" cy="29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NA als meus aliments??? 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fegeix a la solució obtinguda al pas 2, tres cullerades del preparat de plàtan que has obtingut al pas 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mena la solució amb la cullera durant 5-10 minu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61280" y="638964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tracció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952880" y="2362320"/>
          <a:ext cx="3200400" cy="282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2362320"/>
                    <a:ext cx="3200400" cy="28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4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NA als meus aliments???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ntre un membre del grup remena la solució de plàtan, l’altre col·loca el filtre al go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sa’l de manera que el filtre no toqui el fons del g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47080" y="6213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61280" y="63723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tracció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410080" y="2057400"/>
          <a:ext cx="3249720" cy="331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2057400"/>
                    <a:ext cx="3249720" cy="33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4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NA als meus aliments???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sa la mescla pel filtre i deixa que la solució vagi filtrant durant uns minuts, fins que obtinguis uns 5ml de mostra (fins que es cobreixi el fons del go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61280" y="638964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tracció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876920" y="2500200"/>
          <a:ext cx="4038480" cy="295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6920" y="2500200"/>
                    <a:ext cx="4038480" cy="29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4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NA als meus aliments???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380988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s de tenir preparat un tub d’assaig amb alcohol fred. Com més fred estigui l’alcohol millors resultats obtindràs a l’experi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61280" y="638964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tracció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181480" y="2057400"/>
          <a:ext cx="3353040" cy="321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2057400"/>
                    <a:ext cx="3353040" cy="32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4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NA als meus aliments???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mple la pipeta de plàstic amb la solució de plà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21680" y="638964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tracció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105520" y="2057400"/>
          <a:ext cx="3368520" cy="351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05520" y="2057400"/>
                    <a:ext cx="3368520" cy="35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NA als meus aliments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6640" y="2473200"/>
            <a:ext cx="433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è és el DNA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25520" y="3716280"/>
            <a:ext cx="471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n trobem DNA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NA als meus aliments??? 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fegeix la mescla a l’alcoh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ixa que la solució reposi durant 2 ó 3 minuts sense moure-la. És molt important no agitar el tu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21680" y="638964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tracció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181480" y="2209680"/>
          <a:ext cx="3353040" cy="305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2209680"/>
                    <a:ext cx="3353040" cy="30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NA als meus aliments???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ult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DNA precipita en contacte amb l’alcoho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é l’aparença d’un moc filamentós i blan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61280" y="638964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tracció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334120" y="1981080"/>
          <a:ext cx="2782800" cy="365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4120" y="1981080"/>
                    <a:ext cx="27828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71680" y="2519280"/>
            <a:ext cx="8001000" cy="34480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66"/>
              </a:buClr>
              <a:buFont typeface="Comic Sans MS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  <a:tab algn="l" pos="102870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El DNA determina les característiques de tots els organismes vi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  <a:tab algn="l" pos="102870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66"/>
              </a:buClr>
              <a:buFont typeface="Comic Sans MS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  <a:tab algn="l" pos="102870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El DNA està compost de quatre molècules que s’anomenen amb quatre lletres de l’alfabet: A, T, C i 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  <a:tab algn="l" pos="102870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lnSpc>
                <a:spcPct val="100000"/>
              </a:lnSpc>
              <a:buClr>
                <a:srgbClr val="000066"/>
              </a:buClr>
              <a:buFont typeface="Comic Sans MS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  <a:tab algn="l" pos="102870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L’ordre d’aquestes quatre lletres determina les característiques de l’organisme, de la mateixa manera que l’ordre de les lletres determina el significat de les parau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  <a:tab algn="l" pos="102870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66"/>
              </a:buClr>
              <a:buFont typeface="Comic Sans MS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  <a:tab algn="l" pos="102870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Cada cèl·lula del cos humà té &gt;3 BILIONS de llet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019240" y="1674720"/>
            <a:ext cx="510552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L'empremta de la Vida</a:t>
            </a:r>
            <a:endParaRPr b="0" lang="en-US" sz="2400" spc="1" strike="noStrike">
              <a:ln w="9360">
                <a:solidFill>
                  <a:srgbClr val="000066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532320" y="279360"/>
            <a:ext cx="2074320" cy="671040"/>
            <a:chOff x="3532320" y="279360"/>
            <a:chExt cx="2074320" cy="671040"/>
          </a:xfrm>
        </p:grpSpPr>
        <p:sp>
          <p:nvSpPr>
            <p:cNvPr id="59" name=""/>
            <p:cNvSpPr txBox="1"/>
            <p:nvPr/>
          </p:nvSpPr>
          <p:spPr>
            <a:xfrm>
              <a:off x="3547800" y="304560"/>
              <a:ext cx="2058840" cy="6458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4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000066"/>
                  </a:solidFill>
                  <a:latin typeface="Arial Black"/>
                </a:rPr>
                <a:t>DNA</a:t>
              </a:r>
              <a:endParaRPr b="0" lang="en-US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00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0" name=""/>
            <p:cNvSpPr txBox="1"/>
            <p:nvPr/>
          </p:nvSpPr>
          <p:spPr>
            <a:xfrm>
              <a:off x="3532320" y="279360"/>
              <a:ext cx="2058480" cy="6458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4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99ccff"/>
                  </a:solidFill>
                  <a:latin typeface="Arial Black"/>
                </a:rPr>
                <a:t>DNA</a:t>
              </a:r>
              <a:endParaRPr b="0" lang="en-US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99cc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61" name=""/>
          <p:cNvSpPr txBox="1"/>
          <p:nvPr/>
        </p:nvSpPr>
        <p:spPr>
          <a:xfrm>
            <a:off x="8223120" y="6261120"/>
            <a:ext cx="320760" cy="558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ff33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010360" y="5867280"/>
            <a:ext cx="225720" cy="754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443800" y="6076800"/>
            <a:ext cx="192240" cy="567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713800" y="6173640"/>
            <a:ext cx="277920" cy="601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486080" y="304920"/>
            <a:ext cx="61722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DNA, l'emprenta de la Vida</a:t>
            </a:r>
            <a:endParaRPr b="0" lang="en-US" sz="2400" spc="1" strike="noStrike">
              <a:ln w="9360">
                <a:solidFill>
                  <a:srgbClr val="000066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66" name=""/>
          <p:cNvSpPr/>
          <p:nvPr/>
        </p:nvSpPr>
        <p:spPr>
          <a:xfrm>
            <a:off x="1038240" y="1924200"/>
            <a:ext cx="7066080" cy="344556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L’</a:t>
            </a: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única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diferència entre organismes vius és la quantitat de DNA que tenen i com està organitzat aques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443640" y="4005360"/>
            <a:ext cx="2336760" cy="26874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1523880" y="380880"/>
            <a:ext cx="61722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99ccff"/>
                </a:solidFill>
                <a:latin typeface="Arial Black"/>
              </a:rPr>
              <a:t>DNA, l'empremta de la Vida</a:t>
            </a:r>
            <a:endParaRPr b="0" lang="en-US" sz="2400" spc="1" strike="noStrike">
              <a:ln w="9360">
                <a:solidFill>
                  <a:srgbClr val="000066"/>
                </a:solidFill>
                <a:miter/>
              </a:ln>
              <a:solidFill>
                <a:srgbClr val="99cc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523880" y="228600"/>
            <a:ext cx="61722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DNA, l'emprenta de la Vida</a:t>
            </a:r>
            <a:endParaRPr b="0" lang="en-US" sz="2400" spc="1" strike="noStrike">
              <a:ln w="9360">
                <a:solidFill>
                  <a:srgbClr val="000066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600200" y="228600"/>
            <a:ext cx="61722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99ccff"/>
                </a:solidFill>
                <a:latin typeface="Arial Black"/>
              </a:rPr>
              <a:t>DNA, l'empremta de la Vida</a:t>
            </a:r>
            <a:endParaRPr b="0" lang="en-US" sz="2400" spc="1" strike="noStrike">
              <a:ln w="9360">
                <a:solidFill>
                  <a:srgbClr val="000066"/>
                </a:solidFill>
                <a:miter/>
              </a:ln>
              <a:solidFill>
                <a:srgbClr val="99ccff"/>
              </a:solidFill>
              <a:latin typeface="Arial Black"/>
              <a:ea typeface="Arial Blac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990880" y="957240"/>
            <a:ext cx="2614680" cy="563076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5029560" y="145584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33920" y="217332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88000" y="2714760"/>
            <a:ext cx="3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51440" y="353376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56440" y="4262400"/>
            <a:ext cx="3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33920" y="491976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01840" y="561672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84640" y="1432080"/>
            <a:ext cx="3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48160" y="494820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91080" y="215100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43240" y="351000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44960" y="564516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80280" y="275436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18160" y="425124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2133720" y="1219320"/>
          <a:ext cx="5021280" cy="556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219320"/>
                    <a:ext cx="502128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5567760" y="1219320"/>
            <a:ext cx="14533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orop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91320" y="175248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itocond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29718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cu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37360" y="6248520"/>
            <a:ext cx="25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embrana cel·l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37360" y="571500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aret cel·l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5440" y="510552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itopla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4840" y="1523880"/>
            <a:ext cx="10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uc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D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2209680"/>
            <a:ext cx="106668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103360" y="1600200"/>
            <a:ext cx="460440" cy="533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789160" y="2209680"/>
            <a:ext cx="384120" cy="6098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951080" y="3200400"/>
            <a:ext cx="1374840" cy="14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809880" y="5713200"/>
            <a:ext cx="533520" cy="765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048120" y="5560560"/>
            <a:ext cx="380880" cy="38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200400" y="4493880"/>
            <a:ext cx="838080" cy="765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22560" y="304920"/>
            <a:ext cx="273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Arial Black"/>
              </a:rPr>
              <a:t>La Cèl· lu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NA als meus aliments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DNA és present a totes les cèl·lules de tots els organismes vi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DNA forma els gens, i aquests s’agrupen formant els cromoso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s científics han de ser capaços de separar el DNA d’altres substàncies de les cèl·lules, i ho fan amb cura per no desnaturalitzar-lo (trencar-l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710120" y="638964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roducci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NA als meus aliments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parareu una solució amb plàtan, sal, aigua destil·lada i xamp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xampú trenca les membranes cel·lulars i dissol els lípids (greixos com el colesterol) i les proteïnes que mantenen la integritat de la membrana cel·lu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10120" y="644832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roducci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NA als meus aliments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xampú formarà complexes amb lípids i proteïnes que més tard filtrarem per tal d’obtenir només el D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 sal permet que el DNA precipiti quan, un cop filtrat, l’aboquem a l’alcohol f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resultat final de l’experiment serà un moc blanquinós i filamentós que conté el DNA i les proteïnes associades a aquest, anomenades hist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9080" y="4587840"/>
            <a:ext cx="862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33800" y="638964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roducci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Zeller</dc:creator>
  <dc:description/>
  <dc:language>en-US</dc:language>
  <cp:lastModifiedBy>.</cp:lastModifiedBy>
  <dcterms:modified xsi:type="dcterms:W3CDTF">2008-09-14T15:02:49Z</dcterms:modified>
  <cp:revision>1</cp:revision>
  <dc:subject/>
  <dc:title>DNA als meus aliments ?</dc:title>
</cp:coreProperties>
</file>